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FB4-5C6D-487D-BF40-2470C38A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A4B-7F9D-4653-92FB-8EA70520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1E9-BFDB-4114-9995-4CE9912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EAD-5625-489E-A924-C0AB6482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3AC4-CB68-42E5-954E-BB29EFA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CC5E-58AA-4F9F-90A8-00E959B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29D4-5943-4435-9468-1551CAA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47B2-DFAA-4DB0-8637-3ACEF751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E7D-8DCB-435D-8430-3BD461D6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BC0D-D1F6-40FE-BF3F-3408629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5869-D03C-453E-A9BE-8821C1D6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17E-DEB5-4D83-807C-640372F8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9BC-4EAF-4E72-A8EC-DE7078E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6DBB-6ED4-4193-A188-3CCA8A63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B704-6146-47EF-8E01-FC20D1A5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1A31-6755-4E7E-9980-F2D1E29B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FF13-0F6E-412B-A174-216647EB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1E1-2C90-40C1-9726-59C4330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638-192D-4798-8B00-3F4A6B29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0CDD-928B-4F55-89AC-4FD2E29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F9D-E63B-4411-B41D-A547D02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9A8-443E-40EC-B8C3-2254110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EEA-4014-4A9D-846D-51E25DF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709-30C9-49C8-B1A1-6D7D26D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EBA-F903-46A6-9D71-BE114F04D0C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6D9C-5652-49C1-AECF-8C7B96C33AC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14400" y="5335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Ta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g questions are used when the speaker is trying to involve the listener in the convers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236232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ted conoce a la señora Slonek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nes quince añ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Ecu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838080" y="236232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tenemos un examen ho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Verb +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38080" y="213372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Y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questions can be answer with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These questions normally start with the verb then the subje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Estás b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S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no estoy bi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eñora Martínez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profeso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05740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ollowing statements to sí/no questions by placing the verb first in the sent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señora Martínez la profes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2120" y="2057400"/>
            <a:ext cx="7696080" cy="3776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 gimnasio está cerca de la cafeter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l gimnasio cerca de la cafeter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computación es difíc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computación difíc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38080" y="2362320"/>
            <a:ext cx="72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formed by adding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sí o 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 o fals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 the end of a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2120" y="2057400"/>
            <a:ext cx="7696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muerzo es al mediod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l almuerzo al mediod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erto está en la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tá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oberto en la clase de espa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lase de español es por la tar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 clase de español por la tar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62120" y="2057400"/>
            <a:ext cx="7696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studiantes escriben muchas composicio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scribe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 estudiantes muchas composicion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533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ds + verb + su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838080" y="2133720"/>
            <a:ext cx="7239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type of questions words request information. These questions begin with a question word like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Tweetie po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62120" y="2057400"/>
            <a:ext cx="7696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 trabaja después del coleg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raba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ara después del colegi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133720"/>
            <a:ext cx="72392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tu tía favori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la chica al lado de Dav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38080" y="1828800"/>
            <a:ext cx="7239240" cy="66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 means ‘who’ when dealing with groups of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on esas chicos jugando al béisb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n los profesores de matématicas aquí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Pablo, Sara, y Jul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tu nueva amig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 una calcualadora que puedo us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38080" y="2666880"/>
            <a:ext cx="72392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tus pad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14400" y="533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Quién?  (Wh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Quién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el presidente de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después de la escuel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los chicos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un restaurante mexicano en Harris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tu herma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n tod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queda corre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el museo de antropologí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mos cuando estamos en Méxic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mi lápi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80880" y="5335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Dónde / Adónd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Adón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tá la tarea para la clase de matémati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clase de espoñ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cuesta la camisa roj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enchilad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ienes la clase de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es la fecha de tu cumpleañ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son los pantalones de ray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38080" y="2666880"/>
            <a:ext cx="830592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termina la cl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838080" y="266688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 or ¿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uánt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_____________ vas al cine? Quiero acompañar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387440" y="4191120"/>
            <a:ext cx="3184560" cy="7642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¿Cuándo?/¿Cuán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362320"/>
            <a:ext cx="76964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you say to get a friend to agree or disagree with you as you make the following statements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esta es divertida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2362320"/>
            <a:ext cx="7696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rofesor es muy inteligente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14400" y="533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38080" y="2362320"/>
            <a:ext cx="7696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Mode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s de Arkansas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no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 calor hoy, 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perr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s bonito,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¿verda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0:13:03Z</dcterms:created>
  <dc:creator>Paul Widergren</dc:creator>
  <dc:description/>
  <dc:language>en-US</dc:language>
  <cp:lastModifiedBy>Jeff</cp:lastModifiedBy>
  <dcterms:modified xsi:type="dcterms:W3CDTF">2010-10-21T19:49:00Z</dcterms:modified>
  <cp:revision>5</cp:revision>
  <dc:subject/>
  <dc:title>No Slide Title</dc:title>
</cp:coreProperties>
</file>